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E227-BBEF-4502-A9DD-9A6DC5ACEC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3B4F-C86B-4918-AB9D-801B81A5AA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F926-C91F-43EA-8AF0-7097BFBAA4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7DB3-0433-4825-B576-3CB7F48098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B8D4-6723-484D-A5C3-85D69229DB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58C5-F98E-4F2D-81A8-F7130E5A0D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0F1C-52F8-412B-9FBD-3DAEDFDE1C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6EA6-AFD5-4021-B052-43E665F61B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F4FE-0316-41EF-9EE9-5D83E85616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B91D-5464-4746-BBE4-F20607E1BF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0732-9828-4CEA-85CF-18183C4766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EE92-AE48-4240-9F00-B91FB7614D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6400-0B65-44C5-A115-4C9A82753D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9DFE-2253-470F-ABD7-28E1479A5B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64A6-E258-4217-814B-56A6D6A06F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4D50-AEF0-4B36-A7C0-DBB176643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AD36-5C81-4920-ABBD-62B6E9C6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20F9-1C88-4228-B7FA-82FE35252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C91B-BCAB-499C-8F1C-ACA199F79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754C-6BBF-4048-8FC1-E155814C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7E6A-50AC-4568-B613-D404A1CA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0D15-B601-4E74-8EC6-479DA12D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87F3-6C12-449B-86FC-B3F94E59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B751-EB44-4B50-BB02-9048E264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3DAE-8CA2-41D1-8F04-33CAC526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FC42-C330-4F0D-A795-347F4C18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C4B8-D0FD-427A-AADE-BBAA796E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A71F-6982-4883-8708-751F69A116F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‘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i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’ and the ‘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com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’ of sit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sitcoms feature a group of characters trapped in a particular situation or in a dysfunctional relationship. The situation could include being part of a family; being married to a grumpy old man; or working with annoying people. This is the 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</a:rPr>
              <a:t>sit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u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tcoms are also supposed to be funny. We laugh at, or along with the charact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ognising and understanding their situ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the 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</a:rPr>
              <a:t>com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w choose a 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family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pace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ho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z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flat in Peckh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front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pr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New York apar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ow choose your character grouping and your sit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dividual (with supporting charact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dd cou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What is the situation your characters are in? They should be trapped in some way – i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particular situation or in a dysfunctional relationship (ie being part of a family; being married to a grumpy old man; or working with annoying people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ow choose your character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son trapped in the ’situation’ of the situation come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son doing the tr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idiot/fool/j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eliable matriarch/patri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moral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dependable 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The controlling wif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The useless husb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The grumpy old m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The gee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The ditzy blo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The rog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Sweet natured/Dutiful wife or moth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The sno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Dopey m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Absent-minded eccentr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Overbearing b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Nosey/meddling Neighb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interfering mother-in-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over protective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oose your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fy the differences between your main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m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ign their character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will need to identify their likeable qu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will also need to identify their personality f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will you represent these? (Dress, hair and makeup, mise-en-scene, dialogue and actions, catchphrase, visual motif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vise an epis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ing the standard narrative structure of equilibrium, disruption, resolution, equilibrium decide what happ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estions to resol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kind of camera style, style of title sequence  would you go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o is the target audience and what would be the ideal TV slot for your sitc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makes it funny? Identify the main sources and types of humour you could exp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is familiar/ expected/conventional about your sitc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is unfamiliar/ unexpected/ unconventional about your sitc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member: TV programmes that strike the right balance are the most successfu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xten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eak your episode down into scenes (12 x 2 mins ea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 a dialogue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Year 10 sitcom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382896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ristie, Dan, Sofia, Cait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mes, Sam, Rhys, Geor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m, Alex, Jess, P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scar, Andrea, April, S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4572000" y="1643040"/>
            <a:ext cx="3857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mma, David, Chris, Lor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ke, Ollie, Kate, Emily, Char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oe, Liam, Connor, La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xie, Melih, Ross, J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val 2"/>
          <p:cNvSpPr/>
          <p:nvPr/>
        </p:nvSpPr>
        <p:spPr>
          <a:xfrm>
            <a:off x="2819520" y="2362320"/>
            <a:ext cx="3886200" cy="25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it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Kabel Bk BT"/>
              </a:rPr>
              <a:t>Audience popularity – why do audiences like sitco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4"/>
          <p:cNvSpPr/>
          <p:nvPr/>
        </p:nvSpPr>
        <p:spPr>
          <a:xfrm>
            <a:off x="685800" y="2895480"/>
            <a:ext cx="281952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5"/>
          <p:cNvSpPr/>
          <p:nvPr/>
        </p:nvSpPr>
        <p:spPr>
          <a:xfrm>
            <a:off x="3429000" y="4343400"/>
            <a:ext cx="281952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"/>
          <p:cNvSpPr/>
          <p:nvPr/>
        </p:nvSpPr>
        <p:spPr>
          <a:xfrm>
            <a:off x="1258920" y="4221000"/>
            <a:ext cx="281952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7"/>
          <p:cNvSpPr/>
          <p:nvPr/>
        </p:nvSpPr>
        <p:spPr>
          <a:xfrm>
            <a:off x="5791320" y="2971800"/>
            <a:ext cx="281916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8"/>
          <p:cNvSpPr/>
          <p:nvPr/>
        </p:nvSpPr>
        <p:spPr>
          <a:xfrm>
            <a:off x="1066680" y="1523880"/>
            <a:ext cx="281952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9"/>
          <p:cNvSpPr/>
          <p:nvPr/>
        </p:nvSpPr>
        <p:spPr>
          <a:xfrm>
            <a:off x="5334120" y="1600200"/>
            <a:ext cx="281916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0"/>
          <p:cNvSpPr/>
          <p:nvPr/>
        </p:nvSpPr>
        <p:spPr>
          <a:xfrm>
            <a:off x="3124080" y="1143000"/>
            <a:ext cx="281952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1"/>
          <p:cNvSpPr/>
          <p:nvPr/>
        </p:nvSpPr>
        <p:spPr>
          <a:xfrm>
            <a:off x="5486400" y="4267080"/>
            <a:ext cx="281952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Oval 2"/>
          <p:cNvSpPr/>
          <p:nvPr/>
        </p:nvSpPr>
        <p:spPr>
          <a:xfrm>
            <a:off x="2819520" y="2362320"/>
            <a:ext cx="3886200" cy="25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it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Kabel Bk BT"/>
              </a:rPr>
              <a:t>Audience popul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4"/>
          <p:cNvSpPr/>
          <p:nvPr/>
        </p:nvSpPr>
        <p:spPr>
          <a:xfrm>
            <a:off x="685800" y="2895480"/>
            <a:ext cx="281952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ly half an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5"/>
          <p:cNvSpPr/>
          <p:nvPr/>
        </p:nvSpPr>
        <p:spPr>
          <a:xfrm>
            <a:off x="3429000" y="4343400"/>
            <a:ext cx="281952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ght, eas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w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6"/>
          <p:cNvSpPr/>
          <p:nvPr/>
        </p:nvSpPr>
        <p:spPr>
          <a:xfrm>
            <a:off x="1258920" y="4221000"/>
            <a:ext cx="281952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mes refl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 society - relev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7"/>
          <p:cNvSpPr/>
          <p:nvPr/>
        </p:nvSpPr>
        <p:spPr>
          <a:xfrm>
            <a:off x="5791320" y="2971800"/>
            <a:ext cx="281916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gniseable sit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8"/>
          <p:cNvSpPr/>
          <p:nvPr/>
        </p:nvSpPr>
        <p:spPr>
          <a:xfrm>
            <a:off x="1066680" y="1523880"/>
            <a:ext cx="281952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thart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el bet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9"/>
          <p:cNvSpPr/>
          <p:nvPr/>
        </p:nvSpPr>
        <p:spPr>
          <a:xfrm>
            <a:off x="5334120" y="1600200"/>
            <a:ext cx="281916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 relate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0"/>
          <p:cNvSpPr/>
          <p:nvPr/>
        </p:nvSpPr>
        <p:spPr>
          <a:xfrm>
            <a:off x="3124080" y="1143000"/>
            <a:ext cx="281952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1"/>
          <p:cNvSpPr/>
          <p:nvPr/>
        </p:nvSpPr>
        <p:spPr>
          <a:xfrm>
            <a:off x="5486400" y="4267080"/>
            <a:ext cx="281952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llow con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safe + famili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Oval 2"/>
          <p:cNvSpPr/>
          <p:nvPr/>
        </p:nvSpPr>
        <p:spPr>
          <a:xfrm>
            <a:off x="2819520" y="2362320"/>
            <a:ext cx="3886200" cy="25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it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Kabel Bk BT"/>
              </a:rPr>
              <a:t>What are the ‘conventions’ of a sitcom? What do you expect to se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4"/>
          <p:cNvSpPr/>
          <p:nvPr/>
        </p:nvSpPr>
        <p:spPr>
          <a:xfrm>
            <a:off x="685800" y="2895480"/>
            <a:ext cx="281952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5"/>
          <p:cNvSpPr/>
          <p:nvPr/>
        </p:nvSpPr>
        <p:spPr>
          <a:xfrm>
            <a:off x="3429000" y="4343400"/>
            <a:ext cx="281952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6"/>
          <p:cNvSpPr/>
          <p:nvPr/>
        </p:nvSpPr>
        <p:spPr>
          <a:xfrm>
            <a:off x="1295280" y="4191120"/>
            <a:ext cx="281952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7"/>
          <p:cNvSpPr/>
          <p:nvPr/>
        </p:nvSpPr>
        <p:spPr>
          <a:xfrm>
            <a:off x="5791320" y="2971800"/>
            <a:ext cx="281916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8"/>
          <p:cNvSpPr/>
          <p:nvPr/>
        </p:nvSpPr>
        <p:spPr>
          <a:xfrm>
            <a:off x="1042920" y="1557360"/>
            <a:ext cx="281952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9"/>
          <p:cNvSpPr/>
          <p:nvPr/>
        </p:nvSpPr>
        <p:spPr>
          <a:xfrm>
            <a:off x="5334120" y="1600200"/>
            <a:ext cx="281916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0"/>
          <p:cNvSpPr/>
          <p:nvPr/>
        </p:nvSpPr>
        <p:spPr>
          <a:xfrm>
            <a:off x="3124080" y="1143000"/>
            <a:ext cx="281952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1"/>
          <p:cNvSpPr/>
          <p:nvPr/>
        </p:nvSpPr>
        <p:spPr>
          <a:xfrm>
            <a:off x="5486400" y="4267080"/>
            <a:ext cx="281952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Oval 2"/>
          <p:cNvSpPr/>
          <p:nvPr/>
        </p:nvSpPr>
        <p:spPr>
          <a:xfrm>
            <a:off x="2843280" y="2997360"/>
            <a:ext cx="3886200" cy="25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it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361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Kabel Bk BT"/>
              </a:rPr>
              <a:t>Audience expectations of sit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4"/>
          <p:cNvSpPr/>
          <p:nvPr/>
        </p:nvSpPr>
        <p:spPr>
          <a:xfrm>
            <a:off x="684360" y="3645000"/>
            <a:ext cx="281916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me group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ch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5"/>
          <p:cNvSpPr/>
          <p:nvPr/>
        </p:nvSpPr>
        <p:spPr>
          <a:xfrm>
            <a:off x="3419640" y="4869000"/>
            <a:ext cx="281916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0 mins l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6"/>
          <p:cNvSpPr/>
          <p:nvPr/>
        </p:nvSpPr>
        <p:spPr>
          <a:xfrm>
            <a:off x="1187280" y="5084640"/>
            <a:ext cx="2819520" cy="161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dinary settings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fice, the home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me each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7"/>
          <p:cNvSpPr/>
          <p:nvPr/>
        </p:nvSpPr>
        <p:spPr>
          <a:xfrm>
            <a:off x="5796000" y="3500280"/>
            <a:ext cx="281952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gular TV s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8"/>
          <p:cNvSpPr/>
          <p:nvPr/>
        </p:nvSpPr>
        <p:spPr>
          <a:xfrm>
            <a:off x="1042920" y="2276640"/>
            <a:ext cx="281952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io set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ined 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9"/>
          <p:cNvSpPr/>
          <p:nvPr/>
        </p:nvSpPr>
        <p:spPr>
          <a:xfrm>
            <a:off x="5508720" y="2349360"/>
            <a:ext cx="281916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umour – shou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ke you la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0"/>
          <p:cNvSpPr/>
          <p:nvPr/>
        </p:nvSpPr>
        <p:spPr>
          <a:xfrm>
            <a:off x="3132000" y="1916280"/>
            <a:ext cx="281952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reotype or arche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1"/>
          <p:cNvSpPr/>
          <p:nvPr/>
        </p:nvSpPr>
        <p:spPr>
          <a:xfrm>
            <a:off x="5508720" y="4724280"/>
            <a:ext cx="281916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fferent storyl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ch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2"/>
          <p:cNvSpPr/>
          <p:nvPr/>
        </p:nvSpPr>
        <p:spPr>
          <a:xfrm>
            <a:off x="5508720" y="1413000"/>
            <a:ext cx="2243160" cy="144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io audienc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ned laugh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3"/>
          <p:cNvSpPr/>
          <p:nvPr/>
        </p:nvSpPr>
        <p:spPr>
          <a:xfrm>
            <a:off x="1692360" y="1341360"/>
            <a:ext cx="2243160" cy="144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K or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4"/>
          <p:cNvSpPr/>
          <p:nvPr/>
        </p:nvSpPr>
        <p:spPr>
          <a:xfrm>
            <a:off x="3564000" y="907920"/>
            <a:ext cx="2243160" cy="144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ots focus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eryday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dentifying common character stereo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son trapped in the ’situation’ of the situation come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son doing the tra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idiot/fool/jester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reliable matriarch/patri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oral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dependable part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ver and over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 of the situation in sitcom is that the characters never really escape their situation – the family stays together in My Family, Delboy and Rodney never get rich in Only Fools and Horses, The workers stay in their dull jobs in The Off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ccasionally, in long running series or to end a series, things will change – Nana dies in The Royle Family, Chandler and Monica get married, Dawn and Tim get together in The Off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, on the whole, characters end each episode in more or less the same place or situation they started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circular narratives keep characters in their amusing situation; this helps producers sell series for repeats as they can be watched in almost any order; it also helps the audience know what to expect each time they wa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tcoms have a restricted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racters tend to stay in same situation, episode after epis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a limited number of main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ots are based around everyday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our is based around personalities and the smaller problems in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haracters usually reflect the target aud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tcoms are relatively cheap and easy to ma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can appeal to a wide range of different audi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reating your own sit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3534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will be allocated one of the following plo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elebrating Christmas with the in-la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blind date goes w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crazy friend is in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character is promoted at work, the other is no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racter brings odd girlfriend/boyfriend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00:33:34Z</dcterms:created>
  <dc:creator>Nikki</dc:creator>
  <dc:description/>
  <dc:language>en-US</dc:language>
  <cp:lastModifiedBy>kbrookes</cp:lastModifiedBy>
  <dcterms:modified xsi:type="dcterms:W3CDTF">2011-01-11T10:55:53Z</dcterms:modified>
  <cp:revision>37</cp:revision>
  <dc:subject/>
  <dc:title>Sitcoms brainstorm</dc:title>
</cp:coreProperties>
</file>